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42C2-8495-474D-AD96-F6E1330A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7F86-0ECF-4CAA-BAB4-305ACF78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E6C4-2DFF-4E17-AF24-B10671F23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736D-8FF0-4D1C-9E63-759C03581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6FFE-DF58-4951-84ED-FF7C29E2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3413-479D-4F5F-8ADE-21153DBF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2AAF-05FA-44D0-B3B0-DA9C9252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5CDB-8577-4A42-B224-532CBDF7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4E6D-A5CB-4A08-8D78-B6DCBCCB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00A6-4C01-428E-A834-B2A93C00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35C5-FE45-4DF8-A142-805A9B02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2497-3849-4D6A-9CAE-9899ADF4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9090-1494-466E-9E40-6C582BF27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0" y="457200"/>
            <a:ext cx="457200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ff"/>
                </a:solidFill>
                <a:latin typeface="Arial"/>
              </a:rPr>
              <a:t>RHETORICAL DE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91520" y="3124080"/>
            <a:ext cx="137160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ff"/>
                </a:solidFill>
                <a:latin typeface="Arial"/>
              </a:rPr>
              <a:t>SP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971800"/>
            <a:ext cx="205740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33ff"/>
                </a:solidFill>
                <a:latin typeface="Arial"/>
              </a:rPr>
              <a:t>APPE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6019920"/>
            <a:ext cx="167652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ff"/>
                </a:solidFill>
                <a:latin typeface="Arial"/>
              </a:rPr>
              <a:t>The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1371600"/>
            <a:ext cx="426744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Bradley Hand ITC"/>
              </a:rPr>
              <a:t>The JFK Inaugural Addr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Bradley Hand ITC"/>
              </a:rPr>
              <a:t>MAIN MENU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52280" y="152280"/>
            <a:ext cx="8686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Arial Black"/>
              </a:rPr>
              <a:t>ASYNDET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1226520" y="1294560"/>
            <a:ext cx="68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The omission of conjunctions where they would normally be use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795320"/>
            <a:ext cx="3353040" cy="47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9933"/>
                </a:solidFill>
                <a:latin typeface="Arial"/>
              </a:rPr>
              <a:t>Example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9933"/>
                </a:solidFill>
                <a:latin typeface="Arial"/>
              </a:rPr>
              <a:t>“…</a:t>
            </a:r>
            <a:r>
              <a:rPr b="0" lang="en-US" sz="2900" spc="-1" strike="noStrike">
                <a:solidFill>
                  <a:srgbClr val="ff9933"/>
                </a:solidFill>
                <a:latin typeface="Arial"/>
              </a:rPr>
              <a:t>we shall pay any price, bear any burden, meet any hardship, support any friend, oppose any foe, to assure the survival and the success of liberty.”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1752480"/>
            <a:ext cx="4572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6600"/>
                </a:solidFill>
                <a:latin typeface="Arial"/>
              </a:rPr>
              <a:t>Purpose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6600"/>
                </a:solidFill>
                <a:latin typeface="Arial"/>
              </a:rPr>
              <a:t>To stress importan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ff6600"/>
                </a:solidFill>
                <a:latin typeface="Arial"/>
              </a:rPr>
              <a:t>Strong emotional reac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6600"/>
                </a:solidFill>
                <a:latin typeface="Arial"/>
              </a:rPr>
              <a:t>Effect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6600"/>
                </a:solidFill>
                <a:latin typeface="Arial"/>
              </a:rPr>
              <a:t>- After reading this statement, other countries will know that the U.S. will do anything to preserve its freedom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228600" y="228600"/>
            <a:ext cx="8534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ANAPHOR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1605960" y="1218600"/>
            <a:ext cx="610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Repetition of a word or phrase at the beginning of the lin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805040"/>
            <a:ext cx="350496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cc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cc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99cc00"/>
                </a:solidFill>
                <a:latin typeface="Arial"/>
              </a:rPr>
              <a:t>To those old allies… we pledge the loyalty of faithful friends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cc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99cc00"/>
                </a:solidFill>
                <a:latin typeface="Arial"/>
              </a:rPr>
              <a:t>To those new states… we pledge our word…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cc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99cc00"/>
                </a:solidFill>
                <a:latin typeface="Arial"/>
              </a:rPr>
              <a:t>To those people in huts… we pledge our best efforts to help them…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1805040"/>
            <a:ext cx="449604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9900"/>
                </a:solidFill>
                <a:latin typeface="Arial"/>
              </a:rPr>
              <a:t>Purpose:</a:t>
            </a:r>
            <a:br>
              <a:rPr sz="2700"/>
            </a:br>
            <a:r>
              <a:rPr b="0" lang="en-US" sz="2700" spc="-1" strike="noStrike">
                <a:solidFill>
                  <a:srgbClr val="009900"/>
                </a:solidFill>
                <a:latin typeface="Arial"/>
              </a:rPr>
              <a:t>- To draw attention</a:t>
            </a:r>
            <a:br>
              <a:rPr sz="2700"/>
            </a:br>
            <a:r>
              <a:rPr b="0" lang="en-US" sz="2700" spc="-1" strike="noStrike">
                <a:solidFill>
                  <a:srgbClr val="009900"/>
                </a:solidFill>
                <a:latin typeface="Arial"/>
              </a:rPr>
              <a:t>- To elucidate that he will be giving and caring to all types of peop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9900"/>
                </a:solidFill>
                <a:latin typeface="Arial"/>
              </a:rPr>
              <a:t>Effect:</a:t>
            </a:r>
            <a:br>
              <a:rPr sz="2700"/>
            </a:br>
            <a:r>
              <a:rPr b="0" lang="en-US" sz="2700" spc="-1" strike="noStrike">
                <a:solidFill>
                  <a:srgbClr val="009900"/>
                </a:solidFill>
                <a:latin typeface="Arial"/>
              </a:rPr>
              <a:t>- Pathos, or an emotional effect because the reader feels obligated to take par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52280" y="152280"/>
            <a:ext cx="87631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Arial Black"/>
              </a:rPr>
              <a:t>HORTATIV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Arial Black"/>
              </a:rPr>
              <a:t>SENTE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Arial Black"/>
              <a:ea typeface="Arial Black"/>
            </a:endParaRPr>
          </a:p>
        </p:txBody>
      </p:sp>
      <p:sp>
        <p:nvSpPr>
          <p:cNvPr id="79" name=""/>
          <p:cNvSpPr/>
          <p:nvPr/>
        </p:nvSpPr>
        <p:spPr>
          <a:xfrm>
            <a:off x="2822040" y="266616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Exhorts, advises, calls to ac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2971800"/>
            <a:ext cx="3733560" cy="37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66cc"/>
                </a:solidFill>
                <a:latin typeface="Arial"/>
              </a:rPr>
              <a:t>Exampl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66cc"/>
                </a:solidFill>
                <a:latin typeface="Arial"/>
              </a:rPr>
              <a:t>“</a:t>
            </a:r>
            <a:r>
              <a:rPr b="0" lang="en-US" sz="1900" spc="-1" strike="noStrike">
                <a:solidFill>
                  <a:srgbClr val="ff66cc"/>
                </a:solidFill>
                <a:latin typeface="Arial"/>
              </a:rPr>
              <a:t>So let us begin anew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66cc"/>
                </a:solidFill>
                <a:latin typeface="Arial"/>
              </a:rPr>
              <a:t>Let both sides explore what problems unite us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66cc"/>
                </a:solidFill>
                <a:latin typeface="Arial"/>
              </a:rPr>
              <a:t>Let both sides, for the first time, formulate serious and precise proposals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66cc"/>
                </a:solidFill>
                <a:latin typeface="Arial"/>
              </a:rPr>
              <a:t>Let both sides seek to invoke the wonder of science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66cc"/>
                </a:solidFill>
                <a:latin typeface="Arial"/>
              </a:rPr>
              <a:t>Let both sides unite to heed…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3276720"/>
            <a:ext cx="42670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66"/>
                </a:solidFill>
                <a:latin typeface="Arial"/>
              </a:rPr>
              <a:t>Purpos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66"/>
                </a:solidFill>
                <a:latin typeface="Arial"/>
              </a:rPr>
              <a:t>To acknowledge many op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f0066"/>
                </a:solidFill>
                <a:latin typeface="Arial"/>
              </a:rPr>
              <a:t>To politely persua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66"/>
                </a:solidFill>
                <a:latin typeface="Arial"/>
              </a:rPr>
              <a:t>Effect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66"/>
                </a:solidFill>
                <a:latin typeface="Arial"/>
              </a:rPr>
              <a:t>- After reading Kennedy’s list of his plans, he convinces the reader to take par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28600" y="1522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latin typeface="Arial Black"/>
              </a:rPr>
              <a:t>RHETORIC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latin typeface="Arial Black"/>
              </a:rPr>
              <a:t>QUES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2442600" y="2437560"/>
            <a:ext cx="46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A question to which no answer is expec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2905200"/>
            <a:ext cx="350532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9900"/>
                </a:solidFill>
                <a:latin typeface="Arial"/>
              </a:rPr>
              <a:t>Example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9900"/>
                </a:solidFill>
                <a:latin typeface="Arial"/>
              </a:rPr>
              <a:t>“</a:t>
            </a:r>
            <a:r>
              <a:rPr b="0" lang="en-US" sz="2300" spc="-1" strike="noStrike">
                <a:solidFill>
                  <a:srgbClr val="cc9900"/>
                </a:solidFill>
                <a:latin typeface="Arial"/>
              </a:rPr>
              <a:t>Can we forge against these enemies a grand and global alliance, North and South, East and West, that can assure a more fruitful life for all mankind?”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9900"/>
                </a:solidFill>
                <a:latin typeface="Arial"/>
              </a:rPr>
              <a:t>“</a:t>
            </a:r>
            <a:r>
              <a:rPr b="0" lang="en-US" sz="2300" spc="-1" strike="noStrike">
                <a:solidFill>
                  <a:srgbClr val="cc9900"/>
                </a:solidFill>
                <a:latin typeface="Arial"/>
              </a:rPr>
              <a:t>Will you join in that historic effort?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2895480"/>
            <a:ext cx="3657600" cy="43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3300"/>
                </a:solidFill>
                <a:latin typeface="Arial"/>
              </a:rPr>
              <a:t>Purpose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3300"/>
                </a:solidFill>
                <a:latin typeface="Arial"/>
              </a:rPr>
              <a:t>To strengthen the argument</a:t>
            </a:r>
            <a:br>
              <a:rPr sz="2300"/>
            </a:br>
            <a:r>
              <a:rPr b="0" lang="en-US" sz="2300" spc="-1" strike="noStrike">
                <a:solidFill>
                  <a:srgbClr val="663300"/>
                </a:solidFill>
                <a:latin typeface="Arial"/>
              </a:rPr>
              <a:t>- To provoke a respon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3300"/>
                </a:solidFill>
                <a:latin typeface="Arial"/>
              </a:rPr>
              <a:t>Effect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3300"/>
                </a:solidFill>
                <a:latin typeface="Arial"/>
              </a:rPr>
              <a:t>- Reader believes that they, like everyone else, are obligated to participa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28600" y="228600"/>
            <a:ext cx="8610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latin typeface="Arial Black"/>
              </a:rPr>
              <a:t>CHIASM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69696"/>
              </a:solidFill>
              <a:latin typeface="Arial Black"/>
              <a:ea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1451520" y="1370880"/>
            <a:ext cx="648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cond half of a phrase reverses the order of the first ha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2133720"/>
            <a:ext cx="4038480" cy="38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Example:</a:t>
            </a:r>
            <a:br>
              <a:rPr sz="2600"/>
            </a:b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“Let us never negotiate out of fear, but let us never fear to negotiate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And so, my fellow Americans, ask not what your country can do for you; ask what you can do for your country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86600" y="6248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209680"/>
            <a:ext cx="335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76920" y="1984320"/>
            <a:ext cx="37274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rpose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To concentrate attention on the main point of a passage by placing it at the central turning poi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ffect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Draws meaningful contra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Aids in memor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e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066680" y="609480"/>
            <a:ext cx="7315200" cy="563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66ff"/>
                    </a:gs>
                    <a:gs pos="50000">
                      <a:srgbClr val="e9bffe"/>
                    </a:gs>
                    <a:gs pos="100000">
                      <a:srgbClr val="cc66ff"/>
                    </a:gs>
                  </a:gsLst>
                  <a:lin ang="5400000"/>
                </a:gradFill>
                <a:latin typeface="Arial Black"/>
              </a:rPr>
              <a:t>APPEA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66ff"/>
                  </a:gs>
                  <a:gs pos="50000">
                    <a:srgbClr val="e9bffe"/>
                  </a:gs>
                  <a:gs pos="100000">
                    <a:srgbClr val="cc66f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66ff"/>
                    </a:gs>
                    <a:gs pos="50000">
                      <a:srgbClr val="e9bffe"/>
                    </a:gs>
                    <a:gs pos="100000">
                      <a:srgbClr val="cc66ff"/>
                    </a:gs>
                  </a:gsLst>
                  <a:lin ang="5400000"/>
                </a:gradFill>
                <a:latin typeface="Arial Black"/>
              </a:rPr>
              <a:t>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66ff"/>
                  </a:gs>
                  <a:gs pos="50000">
                    <a:srgbClr val="e9bffe"/>
                  </a:gs>
                  <a:gs pos="100000">
                    <a:srgbClr val="cc66f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66ff"/>
                    </a:gs>
                    <a:gs pos="50000">
                      <a:srgbClr val="e9bffe"/>
                    </a:gs>
                    <a:gs pos="100000">
                      <a:srgbClr val="cc66ff"/>
                    </a:gs>
                  </a:gsLst>
                  <a:lin ang="5400000"/>
                </a:gradFill>
                <a:latin typeface="Arial Black"/>
              </a:rPr>
              <a:t>RHETOR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66ff"/>
                  </a:gs>
                  <a:gs pos="50000">
                    <a:srgbClr val="e9bffe"/>
                  </a:gs>
                  <a:gs pos="100000">
                    <a:srgbClr val="cc66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04920" y="152280"/>
            <a:ext cx="1066680" cy="647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304920"/>
            <a:ext cx="6324840" cy="61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For I have sworn before you and Almighty God the same solemn oath our forebears prescribed…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- Kennedy is now credible and hopes to continue the work of past Presid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I do not shrink from this responsibility– I welcome it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- Kennedy has a positive attitude on the situation and has America’s best interests at hear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04920" y="152280"/>
            <a:ext cx="990360" cy="647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2362320" y="304920"/>
            <a:ext cx="6324480" cy="57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ff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9900"/>
                </a:solidFill>
                <a:latin typeface="Arial"/>
              </a:rPr>
              <a:t>Kennedy’s varied use of rhetorical devices makes Pathos the most represented appea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ff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9900"/>
                </a:solidFill>
                <a:latin typeface="Arial"/>
              </a:rPr>
              <a:t>The use of Biblical allusions, anaphora's, and rhetorical questions convince the reader to side with Kenned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ff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9900"/>
                </a:solidFill>
                <a:latin typeface="Arial"/>
              </a:rPr>
              <a:t>Because of his low mandate, Kennedy used antithesis to appeal to and represent the thoughts of everyone in America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7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28600" y="152280"/>
            <a:ext cx="990720" cy="647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99cc00"/>
                    </a:gs>
                  </a:gsLst>
                  <a:lin ang="5400000"/>
                </a:gradFill>
                <a:latin typeface="Arial Black"/>
              </a:rPr>
              <a:t>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99cc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99cc00"/>
                    </a:gs>
                  </a:gsLst>
                  <a:lin ang="5400000"/>
                </a:gradFill>
                <a:latin typeface="Arial Black"/>
              </a:rPr>
              <a:t>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99cc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99cc00"/>
                    </a:gs>
                  </a:gsLst>
                  <a:lin ang="5400000"/>
                </a:gradFill>
                <a:latin typeface="Arial Black"/>
              </a:rPr>
              <a:t>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99cc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99cc00"/>
                    </a:gs>
                  </a:gsLst>
                  <a:lin ang="5400000"/>
                </a:gradFill>
                <a:latin typeface="Arial Black"/>
              </a:rPr>
              <a:t>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99cc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99cc00"/>
                    </a:gs>
                  </a:gsLst>
                  <a:lin ang="5400000"/>
                </a:gradFill>
                <a:latin typeface="Arial Black"/>
              </a:rPr>
              <a:t>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99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7772400" y="6400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152280"/>
            <a:ext cx="6019920" cy="65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In your hands, my fellow citizens, more than mine, will rest the final success or failure of our cours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- Logical cause and effect: If citizens show their loyalty and devotion to America, then Democracy will be preserv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04920" y="228600"/>
            <a:ext cx="8001000" cy="72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ffff"/>
                </a:solidFill>
                <a:latin typeface="Bradley Hand ITC"/>
              </a:rPr>
              <a:t>CLASS 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  </a:t>
            </a:r>
            <a:r>
              <a:rPr b="1" lang="en-US" sz="12000" spc="-1" strike="noStrike">
                <a:solidFill>
                  <a:srgbClr val="333399"/>
                </a:solidFill>
                <a:latin typeface="Bradley Hand ITC"/>
              </a:rPr>
              <a:t>THEME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cf8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066680" y="2057400"/>
            <a:ext cx="1371600" cy="274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Arial Black"/>
              </a:rPr>
              <a:t>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895480" y="2057400"/>
            <a:ext cx="1371600" cy="274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0" y="2057400"/>
            <a:ext cx="1371600" cy="274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400800" y="2057400"/>
            <a:ext cx="1644480" cy="274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6095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457200"/>
            <a:ext cx="8229600" cy="60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Kennedy touches on “The American Dream” when he speaks of the ongoing challenge of stopping Communism and working with other countries (“Let us begin anew…”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- “And this will not be finished in the first one hundred days. Nor will it be finished in the first one thousand days; nor in the life of this Administration; nor even perhaps in our lifetime on this planet. But let us begin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These powerful lines express the hope, effort, and time that must be contributed to reach the American Drea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0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438280"/>
            <a:ext cx="82296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ohn F. Kenne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3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es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oman Catho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President during the Cold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simple diction was easily understood by Ame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228600"/>
            <a:ext cx="8381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Arial Black"/>
              </a:rPr>
              <a:t>SPEAK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04920" y="228600"/>
            <a:ext cx="8381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PURPO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209680"/>
            <a:ext cx="8686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his tactics for presid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vidly explain the world at that point in American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otivate Americans to defend freedom and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 patriotism as well as internatio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04920" y="228600"/>
            <a:ext cx="8458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UDIE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209680"/>
            <a:ext cx="861048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only citizens of America, but citizens of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beginning of the speech, JFK addresses the previous Presidents and Vice P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FK advises Communists to see the benefits of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04920" y="228600"/>
            <a:ext cx="8458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MEDIU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124080"/>
            <a:ext cx="83059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ch that was given at the Capitol Building in Washington, D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elevised, which allowed JFK to be more direct with the audience and make a good first impression as Pres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447920" y="457200"/>
            <a:ext cx="60325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RHETORICA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00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371600" y="3733920"/>
            <a:ext cx="60325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DEVIC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9999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467480" y="6248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28600" y="304920"/>
            <a:ext cx="8458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ANTITHES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1302480" y="1370880"/>
            <a:ext cx="616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Contrast or opposition which is emphasized by parallelism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81080"/>
            <a:ext cx="312444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Example:</a:t>
            </a:r>
            <a:br>
              <a:rPr sz="3400"/>
            </a:b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“Symbolizing an end, as well as a beginning – signifying renewal, as well as change.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1828800"/>
            <a:ext cx="4038840" cy="56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33"/>
                </a:solidFill>
                <a:latin typeface="Arial"/>
              </a:rPr>
              <a:t>Purpose: </a:t>
            </a:r>
            <a:br>
              <a:rPr sz="3000"/>
            </a:br>
            <a:r>
              <a:rPr b="0" lang="en-US" sz="3000" spc="-1" strike="noStrike">
                <a:solidFill>
                  <a:srgbClr val="990033"/>
                </a:solidFill>
                <a:latin typeface="Arial"/>
              </a:rPr>
              <a:t>To educate the reader of more than one possibil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33"/>
                </a:solidFill>
                <a:latin typeface="Arial"/>
              </a:rPr>
              <a:t>- To accommodate the small mand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33"/>
                </a:solidFill>
                <a:latin typeface="Arial"/>
              </a:rPr>
              <a:t>Effect:</a:t>
            </a:r>
            <a:br>
              <a:rPr sz="3000"/>
            </a:br>
            <a:r>
              <a:rPr b="0" lang="en-US" sz="3000" spc="-1" strike="noStrike">
                <a:solidFill>
                  <a:srgbClr val="990033"/>
                </a:solidFill>
                <a:latin typeface="Arial"/>
              </a:rPr>
              <a:t>- Path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04920" y="152280"/>
            <a:ext cx="8458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ALLUS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159948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n indirect reference to any person, place, or th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286000"/>
            <a:ext cx="32004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Example:</a:t>
            </a:r>
            <a:br>
              <a:rPr sz="2400"/>
            </a:b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“…the command of Isaiah– to ‘undo the heavy burdens, and let the oppressed go free’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“…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year in and year out, ‘rejoicing in hope; patient in tribulation’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2133720"/>
            <a:ext cx="403848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urpose: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- Biblical reference to Isai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ff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thos: Builds credibility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- Pathos: If it’s in the Bible, it must be true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iblical reference to the Ro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ff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- Readers believe that we are constantly living out God’s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19:29:12Z</dcterms:created>
  <dc:creator>Licensed User</dc:creator>
  <dc:description/>
  <dc:language>en-US</dc:language>
  <cp:lastModifiedBy>Licensed User</cp:lastModifiedBy>
  <dcterms:modified xsi:type="dcterms:W3CDTF">2008-04-16T23:26:39Z</dcterms:modified>
  <cp:revision>12</cp:revision>
  <dc:subject/>
  <dc:title>Slide 1</dc:title>
</cp:coreProperties>
</file>